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62B-EDA4-4E55-A819-80E86C93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E0F-ABF5-4AC2-92B9-E8BF8563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C3C-2D00-4EC8-9642-23F79975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D80-AAA7-4BE6-890A-AB81BECB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AE11-F7AF-44A4-9A06-F786AC42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081C-E2EC-4810-88CD-EB5DF7E1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A23C-5BEC-492A-8FD0-CE212B3A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B673-05B5-4380-AE10-DAA87B6C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6123-BF02-4227-96EF-3694B527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83BB-24FC-450A-8EF9-03FF1472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5C01-B6FB-423C-B574-17EB56C7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63D-8758-4432-91C2-66DAC94E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4E7B-7EA4-4DAA-972A-448BB9B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F94D-BD51-489D-962D-CC237329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A55D-1485-4DE1-92A0-6E4A3F2B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91D4-EFD2-40F6-8575-0CDAB9AA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141D-745F-48AE-B1FD-8F59BD3D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A4ED-7E13-4335-93C2-00720341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7C250-6563-404F-92E0-0CB1C4D2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99CF-74A9-4625-B2E0-F9E0C7A1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4DCF-0C15-4EC1-A1A8-9319E4EA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62B5-AC32-43BE-B741-8F11CEF6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ABC-C596-448C-B47E-318636FC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FA48-4B70-4F43-BF89-A68EA036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F136-5B30-439A-BF15-2B7E50B1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D65C-06DE-4E1D-A51E-CF7D4F29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1EFA-9F5B-473E-B37D-9E7614A7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E41B2-0E6F-47C7-85C5-425AF843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47FA0-9261-44AB-8704-6387EEA4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3ABD-FCD0-4E07-A32C-C2521B2E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22E83-FD56-4F3E-A125-74712FE6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280A8-CFE8-4F2E-8484-F894279B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81077-E2D5-4D19-A516-84C58A6E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F6B-B1CA-4539-8A66-72CB9FE0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F22E-967D-4905-BD86-C6552EB9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59E7F-EF0F-4601-8C1D-9F0E331B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7EC24-0733-431D-8194-35005B8C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6409E-31AD-442E-A0B5-7759773E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0785-EDC7-4BB6-8D3A-C8CD90CE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6AED-7FAA-4D65-8171-527018C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0E8FD-5F9C-4C7D-B88F-7FDF9471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503A-0EC3-4860-844B-E2B7F29B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6E9DF-6ACF-49FB-B178-9624AC16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FC729-2EBD-4A07-BCB5-550CBE00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1F4-DC1C-4E9D-AC4D-5342470E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3FC27-7770-4E56-B0F9-ECAB618B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74443-AD12-461F-9DFA-336A582C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A7BD0-9080-4D41-90A2-D718CF1D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30B5B-941D-47FF-8395-B16F41D9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41EA5-3EEF-44B8-A838-0A55DACA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ED599-F9B8-400B-80B5-57AB6A41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44D4-DD3C-49A5-B032-3B508635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5C250-4C12-476C-899A-7CCDF5CC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2E263-6722-4212-89CA-4843A1A1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DE7F-0135-4AE1-BF74-18D5CE28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054-F33E-4EEB-9972-5F1022BB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A54F0-DFAE-4E1F-AA1E-C65AE3E0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30581-1F84-4F0D-8AD9-AB50BD2A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0CD8A-5905-47F0-BD76-21273479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CC15A-EDA2-46C7-BE6F-3E60A1D2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4187E-07E0-4C0F-A260-CD69B88C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FE436-3608-4B2E-A03D-3D4D619A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D2AA0-6687-4611-8763-5139BE54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D60FD-145B-4FB8-B6BF-E7A39F4B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A1AEE-C0D2-4F4D-A000-8288463A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6DC83-3D67-4E02-A684-22390C6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19A-CC3C-4FE5-BE2D-7C5DCEF6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997C8-B187-4003-9DAC-76A04B3A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89A3D-571E-4B73-8C79-BB3CCDAB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50E69-5999-4BD8-BD40-91038FAA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42A40-DFF9-4B56-A190-5D03FF92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EFD6F-6C2C-4517-8C17-7E9CADFF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007B0-27DF-472B-B774-147024DD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768A2-7A7A-46BA-A23F-04AE6BAB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ABB96-61DB-4835-9DDE-5C18AD15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446BA-6A28-484F-B30F-EF8838FC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513F9-F0B0-4D3D-BC9F-2A212C5A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AD7-5B92-4248-87FA-4466B14E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0D6DD-221D-41F0-AEDE-76C78124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B5973-21FA-42BB-A0A0-960FAA36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61C46-930C-4620-AB96-E68F06DD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A246E-B6D9-4B27-9376-D856CE8F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7EA68-9BE7-4F14-8CD8-05207CFD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30E-B69C-4461-92BD-8F9A747C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9646-9133-463E-8204-5D3D565EF18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1E86-53AD-407E-99BE-3E6F4D5B6754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30A9-E089-467D-9D2F-5F8D1597E89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7C97-358D-4127-8630-587127FCC01E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DBDF-2EA1-4A4F-93F6-8357C220A17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D8BE-585D-42B1-BE01-EC5780D9849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9C8-9C63-4E31-9AB8-D04C9897EDA0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Subtitle 2" descr=""/>
          <p:cNvPicPr/>
          <p:nvPr/>
        </p:nvPicPr>
        <p:blipFill>
          <a:blip r:embed="rId1"/>
          <a:stretch/>
        </p:blipFill>
        <p:spPr>
          <a:xfrm>
            <a:off x="1444680" y="3651120"/>
            <a:ext cx="6413400" cy="184176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3" descr=""/>
          <p:cNvPicPr/>
          <p:nvPr/>
        </p:nvPicPr>
        <p:blipFill>
          <a:blip r:embed="rId2"/>
          <a:stretch/>
        </p:blipFill>
        <p:spPr>
          <a:xfrm>
            <a:off x="1779480" y="963720"/>
            <a:ext cx="57801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-237960" y="85680"/>
            <a:ext cx="9358200" cy="154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finition: the ratio of change in C from a change in DI, that caused the change in 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PC =      C/     DI = Slope of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nsumption Func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Isosceles Triangle 3"/>
          <p:cNvSpPr/>
          <p:nvPr/>
        </p:nvSpPr>
        <p:spPr>
          <a:xfrm>
            <a:off x="2438280" y="3429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Isosceles Triangle 4"/>
          <p:cNvSpPr/>
          <p:nvPr/>
        </p:nvSpPr>
        <p:spPr>
          <a:xfrm>
            <a:off x="3429000" y="3429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vement alo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anges in DI cause changes in consumption – move from point to point on CF (A to B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Straight Connector 4"/>
          <p:cNvSpPr/>
          <p:nvPr/>
        </p:nvSpPr>
        <p:spPr>
          <a:xfrm flipV="1">
            <a:off x="3124080" y="4648320"/>
            <a:ext cx="2133720" cy="761760"/>
          </a:xfrm>
          <a:prstGeom prst="line">
            <a:avLst/>
          </a:prstGeom>
          <a:ln w="255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5"/>
          <p:cNvSpPr/>
          <p:nvPr/>
        </p:nvSpPr>
        <p:spPr>
          <a:xfrm>
            <a:off x="4724280" y="4648320"/>
            <a:ext cx="228600" cy="2286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6"/>
          <p:cNvSpPr/>
          <p:nvPr/>
        </p:nvSpPr>
        <p:spPr>
          <a:xfrm>
            <a:off x="3352680" y="5181480"/>
            <a:ext cx="228600" cy="22860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304812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44197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1"/>
          <p:cNvSpPr/>
          <p:nvPr/>
        </p:nvSpPr>
        <p:spPr>
          <a:xfrm>
            <a:off x="2438280" y="4191120"/>
            <a:ext cx="76320" cy="213336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Straight Connector 14"/>
          <p:cNvSpPr/>
          <p:nvPr/>
        </p:nvSpPr>
        <p:spPr>
          <a:xfrm>
            <a:off x="2514600" y="6324480"/>
            <a:ext cx="297180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ifts of the l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aused by a change in C that is not because of a change in D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3 facto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pectations of future outcom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Value of wealth/accumulation of asse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ice levels/purchasing pow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Straight Connector 3"/>
          <p:cNvSpPr/>
          <p:nvPr/>
        </p:nvSpPr>
        <p:spPr>
          <a:xfrm flipV="1">
            <a:off x="2819520" y="5714640"/>
            <a:ext cx="2133360" cy="685800"/>
          </a:xfrm>
          <a:prstGeom prst="line">
            <a:avLst/>
          </a:prstGeom>
          <a:ln w="255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traight Connector 4"/>
          <p:cNvSpPr/>
          <p:nvPr/>
        </p:nvSpPr>
        <p:spPr>
          <a:xfrm flipV="1">
            <a:off x="2743200" y="5181480"/>
            <a:ext cx="1905120" cy="609840"/>
          </a:xfrm>
          <a:prstGeom prst="line">
            <a:avLst/>
          </a:prstGeom>
          <a:ln w="255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4952880" y="54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F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9"/>
          <p:cNvSpPr/>
          <p:nvPr/>
        </p:nvSpPr>
        <p:spPr>
          <a:xfrm>
            <a:off x="4648320" y="4952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2" name="Straight Arrow Connector 11"/>
          <p:cNvCxnSpPr/>
          <p:nvPr/>
        </p:nvCxnSpPr>
        <p:spPr>
          <a:xfrm flipV="1">
            <a:off x="4342320" y="5333400"/>
            <a:ext cx="3960" cy="533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23" name="Straight Connector 14"/>
          <p:cNvSpPr/>
          <p:nvPr/>
        </p:nvSpPr>
        <p:spPr>
          <a:xfrm flipH="1">
            <a:off x="2436480" y="4878360"/>
            <a:ext cx="3240" cy="1828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Straight Connector 16"/>
          <p:cNvSpPr/>
          <p:nvPr/>
        </p:nvSpPr>
        <p:spPr>
          <a:xfrm flipV="1">
            <a:off x="2438280" y="6629400"/>
            <a:ext cx="2514600" cy="7632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 + I + G + (X-IM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flects total expenditure at all levels of GD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quilibrium GDP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pending = outpu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6840" y="43430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EGDP &gt; PGDP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pending too hig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ice levels too low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Result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flationary gap form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flation increas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Straight Connector 21"/>
          <p:cNvSpPr/>
          <p:nvPr/>
        </p:nvSpPr>
        <p:spPr>
          <a:xfrm flipH="1">
            <a:off x="2741760" y="1525680"/>
            <a:ext cx="2880" cy="2438280"/>
          </a:xfrm>
          <a:prstGeom prst="line">
            <a:avLst/>
          </a:prstGeom>
          <a:ln w="9360">
            <a:solidFill>
              <a:srgbClr val="28d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22"/>
          <p:cNvSpPr/>
          <p:nvPr/>
        </p:nvSpPr>
        <p:spPr>
          <a:xfrm>
            <a:off x="2133720" y="3962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G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26"/>
          <p:cNvGrpSpPr/>
          <p:nvPr/>
        </p:nvGrpSpPr>
        <p:grpSpPr>
          <a:xfrm>
            <a:off x="2055960" y="1274400"/>
            <a:ext cx="4725720" cy="3056760"/>
            <a:chOff x="2055960" y="1274400"/>
            <a:chExt cx="4725720" cy="3056760"/>
          </a:xfrm>
        </p:grpSpPr>
        <p:grpSp>
          <p:nvGrpSpPr>
            <p:cNvPr id="332" name="Group 19"/>
            <p:cNvGrpSpPr/>
            <p:nvPr/>
          </p:nvGrpSpPr>
          <p:grpSpPr>
            <a:xfrm>
              <a:off x="2055960" y="1274400"/>
              <a:ext cx="4725720" cy="2690280"/>
              <a:chOff x="2055960" y="1274400"/>
              <a:chExt cx="4725720" cy="2690280"/>
            </a:xfrm>
          </p:grpSpPr>
          <p:grpSp>
            <p:nvGrpSpPr>
              <p:cNvPr id="333" name="Group 10"/>
              <p:cNvGrpSpPr/>
              <p:nvPr/>
            </p:nvGrpSpPr>
            <p:grpSpPr>
              <a:xfrm>
                <a:off x="2055960" y="1449000"/>
                <a:ext cx="2667960" cy="2515680"/>
                <a:chOff x="2055960" y="1449000"/>
                <a:chExt cx="2667960" cy="2515680"/>
              </a:xfrm>
            </p:grpSpPr>
            <p:sp>
              <p:nvSpPr>
                <p:cNvPr id="334" name="Straight Connector 5"/>
                <p:cNvSpPr/>
                <p:nvPr/>
              </p:nvSpPr>
              <p:spPr>
                <a:xfrm flipH="1">
                  <a:off x="2055960" y="1449000"/>
                  <a:ext cx="1440" cy="2515680"/>
                </a:xfrm>
                <a:prstGeom prst="line">
                  <a:avLst/>
                </a:prstGeom>
                <a:ln w="25560">
                  <a:solidFill>
                    <a:srgbClr val="ff24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Straight Connector 7"/>
                <p:cNvSpPr/>
                <p:nvPr/>
              </p:nvSpPr>
              <p:spPr>
                <a:xfrm>
                  <a:off x="2057400" y="3963240"/>
                  <a:ext cx="2666520" cy="1440"/>
                </a:xfrm>
                <a:prstGeom prst="line">
                  <a:avLst/>
                </a:prstGeom>
                <a:ln w="25560">
                  <a:solidFill>
                    <a:srgbClr val="ff24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Straight Connector 12"/>
              <p:cNvSpPr/>
              <p:nvPr/>
            </p:nvSpPr>
            <p:spPr>
              <a:xfrm flipV="1">
                <a:off x="2056680" y="1274400"/>
                <a:ext cx="2514600" cy="2688120"/>
              </a:xfrm>
              <a:prstGeom prst="line">
                <a:avLst/>
              </a:prstGeom>
              <a:ln w="9360">
                <a:solidFill>
                  <a:srgbClr val="ff24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TextBox 13"/>
              <p:cNvSpPr/>
              <p:nvPr/>
            </p:nvSpPr>
            <p:spPr>
              <a:xfrm>
                <a:off x="4266720" y="137196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entury Gothic"/>
                  </a:rPr>
                  <a:t>45 *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Straight Connector 15"/>
              <p:cNvSpPr/>
              <p:nvPr/>
            </p:nvSpPr>
            <p:spPr>
              <a:xfrm flipV="1">
                <a:off x="2133720" y="2209680"/>
                <a:ext cx="2438280" cy="838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Box 16"/>
              <p:cNvSpPr/>
              <p:nvPr/>
            </p:nvSpPr>
            <p:spPr>
              <a:xfrm>
                <a:off x="4571640" y="1981440"/>
                <a:ext cx="22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entury Gothic"/>
                  </a:rPr>
                  <a:t>C + I + G + (X-IM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Straight Connector 24"/>
            <p:cNvSpPr/>
            <p:nvPr/>
          </p:nvSpPr>
          <p:spPr>
            <a:xfrm flipH="1">
              <a:off x="3351240" y="2668680"/>
              <a:ext cx="1440" cy="1295280"/>
            </a:xfrm>
            <a:prstGeom prst="line">
              <a:avLst/>
            </a:prstGeom>
            <a:ln w="936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Box 25"/>
            <p:cNvSpPr/>
            <p:nvPr/>
          </p:nvSpPr>
          <p:spPr>
            <a:xfrm>
              <a:off x="3047400" y="39628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EGD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Straight Connector 28"/>
          <p:cNvSpPr/>
          <p:nvPr/>
        </p:nvSpPr>
        <p:spPr>
          <a:xfrm flipV="1">
            <a:off x="2743200" y="2798640"/>
            <a:ext cx="636480" cy="20880"/>
          </a:xfrm>
          <a:prstGeom prst="line">
            <a:avLst/>
          </a:prstGeom>
          <a:ln w="50760">
            <a:solidFill>
              <a:srgbClr val="3ef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3" name="Straight Arrow Connector 36"/>
          <p:cNvCxnSpPr/>
          <p:nvPr/>
        </p:nvCxnSpPr>
        <p:spPr>
          <a:xfrm flipH="1" flipV="1">
            <a:off x="3504960" y="2818800"/>
            <a:ext cx="2210400" cy="686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4" name="TextBox 37"/>
          <p:cNvSpPr/>
          <p:nvPr/>
        </p:nvSpPr>
        <p:spPr>
          <a:xfrm>
            <a:off x="5791320" y="3352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nflationary G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38"/>
          <p:cNvSpPr/>
          <p:nvPr/>
        </p:nvSpPr>
        <p:spPr>
          <a:xfrm>
            <a:off x="4800600" y="4343400"/>
            <a:ext cx="434340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How to Fix i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crease price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crease tax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duce government sp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16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4419360"/>
            <a:ext cx="3733920" cy="20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EGDP &lt; PGDP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pending too low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ice levels to hig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Result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cessionary gap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nemployment ris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209680" y="1371240"/>
            <a:ext cx="4726080" cy="3036240"/>
            <a:chOff x="2209680" y="1371240"/>
            <a:chExt cx="4726080" cy="3036240"/>
          </a:xfrm>
        </p:grpSpPr>
        <p:grpSp>
          <p:nvGrpSpPr>
            <p:cNvPr id="349" name="Group 19"/>
            <p:cNvGrpSpPr/>
            <p:nvPr/>
          </p:nvGrpSpPr>
          <p:grpSpPr>
            <a:xfrm>
              <a:off x="2209680" y="1371240"/>
              <a:ext cx="4726080" cy="2690640"/>
              <a:chOff x="2209680" y="1371240"/>
              <a:chExt cx="4726080" cy="2690640"/>
            </a:xfrm>
          </p:grpSpPr>
          <p:grpSp>
            <p:nvGrpSpPr>
              <p:cNvPr id="350" name="Group 10"/>
              <p:cNvGrpSpPr/>
              <p:nvPr/>
            </p:nvGrpSpPr>
            <p:grpSpPr>
              <a:xfrm>
                <a:off x="2209680" y="1545840"/>
                <a:ext cx="2668320" cy="2516040"/>
                <a:chOff x="2209680" y="1545840"/>
                <a:chExt cx="2668320" cy="2516040"/>
              </a:xfrm>
            </p:grpSpPr>
            <p:sp>
              <p:nvSpPr>
                <p:cNvPr id="351" name="Straight Connector 5"/>
                <p:cNvSpPr/>
                <p:nvPr/>
              </p:nvSpPr>
              <p:spPr>
                <a:xfrm flipH="1">
                  <a:off x="2209680" y="1545840"/>
                  <a:ext cx="1440" cy="2514600"/>
                </a:xfrm>
                <a:prstGeom prst="line">
                  <a:avLst/>
                </a:prstGeom>
                <a:ln w="25560">
                  <a:solidFill>
                    <a:srgbClr val="ff24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Straight Connector 13"/>
                <p:cNvSpPr/>
                <p:nvPr/>
              </p:nvSpPr>
              <p:spPr>
                <a:xfrm>
                  <a:off x="2211120" y="4060440"/>
                  <a:ext cx="2666880" cy="1440"/>
                </a:xfrm>
                <a:prstGeom prst="line">
                  <a:avLst/>
                </a:prstGeom>
                <a:ln w="25560">
                  <a:solidFill>
                    <a:srgbClr val="ff24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Straight Connector 8"/>
              <p:cNvSpPr/>
              <p:nvPr/>
            </p:nvSpPr>
            <p:spPr>
              <a:xfrm flipV="1">
                <a:off x="2210400" y="1371240"/>
                <a:ext cx="2514600" cy="2689560"/>
              </a:xfrm>
              <a:prstGeom prst="line">
                <a:avLst/>
              </a:prstGeom>
              <a:ln w="9360">
                <a:solidFill>
                  <a:srgbClr val="ff24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Box 9"/>
              <p:cNvSpPr/>
              <p:nvPr/>
            </p:nvSpPr>
            <p:spPr>
              <a:xfrm>
                <a:off x="4420800" y="14688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entury Gothic"/>
                  </a:rPr>
                  <a:t>45 *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Straight Connector 10"/>
              <p:cNvSpPr/>
              <p:nvPr/>
            </p:nvSpPr>
            <p:spPr>
              <a:xfrm flipV="1">
                <a:off x="2287440" y="2308320"/>
                <a:ext cx="2438280" cy="838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TextBox 11"/>
              <p:cNvSpPr/>
              <p:nvPr/>
            </p:nvSpPr>
            <p:spPr>
              <a:xfrm>
                <a:off x="4725720" y="2078640"/>
                <a:ext cx="22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entury Gothic"/>
                  </a:rPr>
                  <a:t>C + I + G + (X-IM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Straight Connector 5"/>
            <p:cNvSpPr/>
            <p:nvPr/>
          </p:nvSpPr>
          <p:spPr>
            <a:xfrm flipH="1">
              <a:off x="3504960" y="2765520"/>
              <a:ext cx="1440" cy="1295280"/>
            </a:xfrm>
            <a:prstGeom prst="line">
              <a:avLst/>
            </a:prstGeom>
            <a:ln w="936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Box 6"/>
            <p:cNvSpPr/>
            <p:nvPr/>
          </p:nvSpPr>
          <p:spPr>
            <a:xfrm>
              <a:off x="2895480" y="40392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EGD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Straight Connector 14"/>
          <p:cNvSpPr/>
          <p:nvPr/>
        </p:nvSpPr>
        <p:spPr>
          <a:xfrm flipH="1">
            <a:off x="4191120" y="1600200"/>
            <a:ext cx="1440" cy="2438280"/>
          </a:xfrm>
          <a:prstGeom prst="line">
            <a:avLst/>
          </a:prstGeom>
          <a:ln w="9360">
            <a:solidFill>
              <a:srgbClr val="28d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5"/>
          <p:cNvSpPr/>
          <p:nvPr/>
        </p:nvSpPr>
        <p:spPr>
          <a:xfrm>
            <a:off x="3886200" y="4038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G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Straight Connector 16"/>
          <p:cNvSpPr/>
          <p:nvPr/>
        </p:nvSpPr>
        <p:spPr>
          <a:xfrm flipV="1">
            <a:off x="3505320" y="2742840"/>
            <a:ext cx="685800" cy="20520"/>
          </a:xfrm>
          <a:prstGeom prst="line">
            <a:avLst/>
          </a:prstGeom>
          <a:ln w="50760">
            <a:solidFill>
              <a:srgbClr val="3ef8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Straight Arrow Connector 17"/>
          <p:cNvCxnSpPr/>
          <p:nvPr/>
        </p:nvCxnSpPr>
        <p:spPr>
          <a:xfrm flipH="1" flipV="1">
            <a:off x="4343040" y="2818800"/>
            <a:ext cx="2210400" cy="686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3" name="TextBox 18"/>
          <p:cNvSpPr/>
          <p:nvPr/>
        </p:nvSpPr>
        <p:spPr>
          <a:xfrm>
            <a:off x="6477120" y="3352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ecessionary G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Content Placeholder 2"/>
          <p:cNvSpPr/>
          <p:nvPr/>
        </p:nvSpPr>
        <p:spPr>
          <a:xfrm>
            <a:off x="4572000" y="441972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9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How to fix i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ut tax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ower price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82680">
              <a:lnSpc>
                <a:spcPct val="9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crease government sp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448840" cy="140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also recess abroa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e have less money to spend on impor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s exports for foreign countri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xports decrease, AD decreases, GDP decreases… RECESSIO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3:20Z</dcterms:created>
  <dc:creator>sth_user</dc:creator>
  <dc:description/>
  <dc:language>en-US</dc:language>
  <cp:lastModifiedBy>HP Authorized Customer</cp:lastModifiedBy>
  <dcterms:modified xsi:type="dcterms:W3CDTF">2009-01-27T22:26:45Z</dcterms:modified>
  <cp:revision>8</cp:revision>
  <dc:subject/>
  <dc:title>Slide 1</dc:title>
</cp:coreProperties>
</file>